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4AA6-E366-4BD5-AB8B-5635DE3A8E8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A7D5-CFA6-402F-A8DC-E230764D86D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54D8-4039-4587-B04F-1E58A781C98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FB91-8B8E-4831-B2BB-D531EB1AAEB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F7A7-411A-4295-AE13-A9945004CE3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FB205-51BC-40DB-9CE7-73E21069AA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4AE86-FF1A-471A-920A-5D88E083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70CA-3F8E-4970-AE70-C0F47BF4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675C-C1DD-4A10-B398-7D5EA63C45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EE31-6643-4569-A313-55245EED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6EAA-C8A7-4534-A49D-522B1A18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4D07-B3E8-4F31-9837-8DB86913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20B5-34B9-4B34-8785-E1D7AFDD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B867-AE04-4D4A-AC6B-694CAF9D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A5802-8E93-4CBB-911F-F30EEBAC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40A5-FA91-43AA-8CFC-37F1E927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D3388-186F-447F-967E-B0C5D105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5299-1A4B-41D8-8B5C-92430B4AE35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药效学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部分激动剂是（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无内在活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用药敏感性下降产生药效下降，称之为（    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抗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快速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成瘾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跳现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197000"/>
            <a:ext cx="830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选择性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掌握药物不良反应有哪些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个体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熟悉药物治疗量和极量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的作用方式有哪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治疗指数的含义和比值表示方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完全激动剂、拮抗剂和部分激动剂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药物的协同作用和拮抗作用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0920" y="1341360"/>
            <a:ext cx="77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基本作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兴奋、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选择性：指某些药物只对机体一个或几个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器官产生明显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作用方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局部作用和吸收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直接作用和间接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治疗作用和不良反应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83628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作用：症状较轻。如麻黄碱引起失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对机体器官有损害性。如氯霉素引起骨髓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发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遗效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畸和致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4560" y="1412640"/>
            <a:ext cx="817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剂      量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极      量：比治疗量大，比最小中毒量小，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医生用药选量的最大限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安全范围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治疗指数：动物实验中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L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/E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，是估计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物安全性指标，比值越大越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080" y="30780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剂量和量效关系示意图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1440000" y="1844640"/>
            <a:ext cx="6400800" cy="3639960"/>
            <a:chOff x="1440000" y="1844640"/>
            <a:chExt cx="6400800" cy="3639960"/>
          </a:xfrm>
        </p:grpSpPr>
        <p:sp>
          <p:nvSpPr>
            <p:cNvPr id="120" name="Line 3"/>
            <p:cNvSpPr/>
            <p:nvPr/>
          </p:nvSpPr>
          <p:spPr>
            <a:xfrm>
              <a:off x="2925720" y="5244840"/>
              <a:ext cx="68580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4"/>
            <p:cNvSpPr/>
            <p:nvPr/>
          </p:nvSpPr>
          <p:spPr>
            <a:xfrm flipH="1">
              <a:off x="4811760" y="5244840"/>
              <a:ext cx="74304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440000" y="4025520"/>
              <a:ext cx="640080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292572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V="1">
              <a:off x="555480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V="1">
              <a:off x="33829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V="1">
              <a:off x="504036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V="1">
              <a:off x="3611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37260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38401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39542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40687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41832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42973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44118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5259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46400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V="1">
              <a:off x="4754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V="1">
              <a:off x="58975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721188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7211880" y="4025520"/>
              <a:ext cx="0" cy="38124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3917880" y="3035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常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3980520" y="4101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治疗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3965400" y="4964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安全范围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2248560" y="3436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2368440" y="41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497240" y="2882520"/>
              <a:ext cx="1028520" cy="457200"/>
            </a:xfrm>
            <a:prstGeom prst="rect">
              <a:avLst/>
            </a:prstGeom>
            <a:solidFill>
              <a:srgbClr val="19e7c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剂  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1497240" y="4711320"/>
              <a:ext cx="1028520" cy="45720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效  应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2239920" y="1917360"/>
              <a:ext cx="9118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有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5191560" y="26942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b523"/>
                  </a:solidFill>
                  <a:latin typeface="Tahoma"/>
                  <a:ea typeface="宋体"/>
                </a:rPr>
                <a:t>极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5226120" y="1844640"/>
              <a:ext cx="91188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35"/>
            <p:cNvSpPr/>
            <p:nvPr/>
          </p:nvSpPr>
          <p:spPr>
            <a:xfrm>
              <a:off x="6260760" y="3416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6849000" y="240984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致死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6209280" y="4025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毒性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7054920" y="4406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死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33336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作用的个体差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62864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高敏性：机体用较小剂量就可达到应有效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耐受性（</a:t>
            </a: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tolerance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机体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对药物敏感性低，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                                    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需较大剂量产生预期效应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药性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sista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</a:rPr>
              <a:t>细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药物产生抗药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4360" y="1341360"/>
            <a:ext cx="82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受体学说：   亲和力   内在活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动剂             强            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剂             强            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激动剂      有            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联合用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同：相加、增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264960"/>
            <a:ext cx="5856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药物的治疗指数是（ 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0:10Z</dcterms:modified>
  <cp:revision>98</cp:revision>
  <dc:subject/>
  <dc:title>内科护理学</dc:title>
</cp:coreProperties>
</file>